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69C2-4808-423C-A403-BF931BE8F9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936A-CD0F-4A76-B532-4790359A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93A2-936E-4097-89CF-E0489397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054E1-F938-42A4-9D1A-2A795F8BBF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BCEAC-A023-44FB-9268-151F8112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CEC89-1CFF-4E73-B983-454DF4C1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94A6-E046-4545-B7BA-F9A90C20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D5C9-B618-408B-8E51-F6975CF4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89F3-A80A-42B2-9656-283EC783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6D35-5876-4796-9498-7BC01950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7594-AAC7-4119-AB28-47862CF8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A7282-0015-4DBA-9D63-53F0D5F4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9430-56E9-4EDE-8776-46C5653F83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八节  咯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8760" y="126828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定义 咯血是指喉以下呼吸道和肺组织的出血，血液随咳嗽经口腔咯出，包括大量咯血、血痰或痰中带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支气管疾病、肺部疾病、心血管疾病、全身性疾病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一般少量咯血，仅表现为痰中带血。中等量以上咯血，咯血前患者可有胸闷、咽痒、咳嗽等先兆症状，咳出的血多数为鲜红色，伴有泡沫或痰，呈碱性。咯血少则少量血丝痰，多则短时内咯血不止。大量咯血时患者常伴呛咳、出冷汗、脉速、呼吸急促浅表、颜面苍白伴紧张不安和恐惧感。咯血量的评估，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咯血的特点、伴随症状、咯血对患者的影响、有无咯血相关的疾病史或诱发因素、诊断、治疗与护理经过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咯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比较咯血与呕血，能正确说出两者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咯血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咯血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hemoptysi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喉以下呼吸道和肺组织的出血，血液随咳嗽经口腔咯出，包括大量咯血、血痰或痰中带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与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支气管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部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血管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评估咯血的年龄特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临床表现：一般少量咯血，仅表现为痰中带血。中等量以上咯血，咯血前患者可有胸闷、咽痒、咳嗽等先兆症状，咳出的血多数为鲜红色，伴有泡沫或痰，呈碱性。大量咯血时患者常伴呛咳、出冷汗、脉速、呼吸急促浅表、颜面苍白伴紧张不安和恐惧感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量的评估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颜色和性状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与呕血的鉴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并发症的评估：窒息 、肺不张 、继发感染、失血性休克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咯血与呕血的鉴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371600"/>
          <a:ext cx="8610480" cy="4611600"/>
        </p:xfrm>
        <a:graphic>
          <a:graphicData uri="http://schemas.openxmlformats.org/drawingml/2006/table">
            <a:tbl>
              <a:tblPr/>
              <a:tblGrid>
                <a:gridCol w="2349360"/>
                <a:gridCol w="3052800"/>
                <a:gridCol w="32083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评估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扩张症、原发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肺癌、肺结核、肺炎、风心病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消化性溃疡、急性胃黏膜受损、肝硬化、胃癌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前驱症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喉部痒感、胸闷、咳嗽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上腹部不适、恶心呕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方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中混有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痰、泡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食物残渣、胃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液颜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棕黑、暗红、有时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碱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碱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黑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，如咽下可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，可为柏油样便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停止后可持续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后痰液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常有血痰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血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咯血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窒息的危险 与大量咯血有关；与意识障碍有关；与无力咳嗽所致血液潴留在大气道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循环血量不足的危险 与大量咯血所致循环障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感染的危险 与血液潴留在支气管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焦虑 与反复咯血久治不愈或对检查结果感到不安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恐惧 与大量咯血或咯血不止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液不足 与大量咯血引起循环血量减少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6:28Z</dcterms:modified>
  <cp:revision>223</cp:revision>
  <dc:subject/>
  <dc:title>内科护理学</dc:title>
</cp:coreProperties>
</file>